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89B9-B57C-4E4E-BF97-360427922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FCC0-C842-4DE5-AC42-55AB85CA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C016-B7AF-4A5D-A22E-F80F7D285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5E80-2C99-434F-92D6-6BE760021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04EA-6C44-4D98-9E69-8B65F587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6FA8-CEDA-4033-A480-E7D2AFB3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DDFE-B2B2-49E8-8340-EFBE834B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A44C-3BE2-4029-9B01-15BD732A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DC69-C16C-4389-838C-9EAF4771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366E-D10F-43A3-8C8E-A72801DD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3210-3FCF-463B-9138-81548DC5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8009-9B9C-4B90-85C4-44555336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8374-244C-40BE-B1FF-1E0BFC27B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28800"/>
            <a:ext cx="990612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33520"/>
            <a:ext cx="990612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971800"/>
            <a:ext cx="990612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28080" y="533520"/>
            <a:ext cx="174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hème de la réu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000" y="1828800"/>
            <a:ext cx="50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Objectif de la réunion (résultat à atteindre à la fin de la réun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72720" y="2971800"/>
            <a:ext cx="70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lan de la réunion (animateur, rapporteur, points abordés, durée de chaque séquence,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CHE DE PREPARATION DE REU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38:21Z</dcterms:modified>
  <cp:revision>71</cp:revision>
  <dc:subject/>
  <dc:title>Contrôle interne des risques</dc:title>
</cp:coreProperties>
</file>